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ACD0-B13A-4BFF-9821-4E07D077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CDA-7CE9-4B8D-8461-8207EB82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E24-0D3F-4898-9B93-2760C280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B540-A8AD-4DD5-9AE6-A0C61E83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9B98-4188-46BC-9D65-698E29A6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297B-078A-49D7-AD72-4EF87027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71BE-7190-4F5B-86A8-A299F5CD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7C9C-E4B8-4964-AE53-0D01BB36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D1A5-6772-4B27-9913-4B666C69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EFBB-0B16-4FF6-A4F6-481660A9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B0EF-5FEE-4E87-927E-7DCFCE67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C42-712D-42B2-99F9-740E77BE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CA34-4E55-472B-8665-08FF22BB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76D1-999B-43F1-9B65-BFAAEC14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4D2E-3957-44E2-86BA-9BD2E26A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439D-8CAC-4B4B-800C-4170EFAA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3FBE-66E9-4BF8-B2C9-88BCCD73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48EA-C579-4D3C-B24D-D47806B5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A98C-1275-4BA0-8711-1177591C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9A80-8F89-4221-853F-52387863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3AD4-26C9-4DE0-B5F2-B56B9886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E04-10FA-4A40-8287-13292925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2AE-004F-4257-BE98-1E412A8F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E887-CEE8-4D14-BB33-F2590FAE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CB48-7D7A-4EDC-B09D-9D9E16EA8C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3746-9824-4241-A54D-A53F50F56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cc00"/>
                </a:solidFill>
                <a:latin typeface="Script MT Bold"/>
              </a:rPr>
              <a:t>Ecuador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By Cheyenne and Aar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cc00"/>
                </a:solidFill>
                <a:latin typeface="Script MT Bold"/>
              </a:rPr>
              <a:t>Cultur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952880"/>
          </a:xfrm>
          <a:prstGeom prst="rect">
            <a:avLst/>
          </a:prstGeom>
          <a:noFill/>
          <a:ln w="9360">
            <a:solidFill>
              <a:srgbClr val="b76a0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ligion -  95 %  Roman Catholic, population- 14,573,10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ficial language- Spanish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t – all hand made art. Paintings, weaves, necklaces, clothes – coats gloves, caps, scarf’s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14600" y="30492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ul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cultur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nce- The dance is a folk dance.  When you come to Ecuador you are greeted by dancing like in Hawaii. And your sure to have a good time and fu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othing – Men wear blue poncho or fedora or felt hat and white calf  length kickers. Women wear inane dr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84582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ultur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 – fruits, high quality fish and seafood, countless varieties of adean potatoes. Lemon marinated shrimp, toasted corn, pastries stuffed with spiced meats, Roasted cuy (guinea pig)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ink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ktails a long with liquor. Fruit juices, coffee, coca cola, sprite, fanta. Naranjilla, pina, naranja, guanabana, mora. Beer – pilsener, club. Corn drink. Aguardiente, Anisados, Secons, brandy, rum, wines, manioc, canelito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4:50:31Z</dcterms:created>
  <dc:creator>teacher</dc:creator>
  <dc:description/>
  <dc:language>en-US</dc:language>
  <cp:lastModifiedBy>teacher</cp:lastModifiedBy>
  <dcterms:modified xsi:type="dcterms:W3CDTF">2010-05-07T15:12:26Z</dcterms:modified>
  <cp:revision>4</cp:revision>
  <dc:subject/>
  <dc:title>Ecuador</dc:title>
</cp:coreProperties>
</file>